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B3E2-4C07-4605-865E-A1CACE7CF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0205-1F5C-40BB-882B-AA560368B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6AA3-E4C6-423D-9D9E-C2C0DCED4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5A12-5D73-46F4-AE77-1B4D95A43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5D89-515E-4705-BF44-AFE432129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FAF1-DD31-43BE-B367-B3B1E2CD6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1FF8-6556-4A6C-9913-9AAC68B5D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E3CF-E1D3-46D6-B6DF-A38E47844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D61C-0997-4986-BE08-021A72396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3236-69AE-4E2F-AF2B-7A17376A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12DE-0C57-4DB4-81F4-0F9B2AF6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6014-9572-4C05-BFE0-004BA57F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E55EF-A4A4-4B3B-980A-1ED0036BE3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ASIA DE SU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ŞI OCEANUL INDI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9621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Manualul de Geografie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clasa a VII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, Silviu Neguţ, Gabriela Aposto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981080" y="4800600"/>
            <a:ext cx="518184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esiunea iunie - iuli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 spd="med" advTm="5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2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572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ia de Sud se află în partea meridională a continentului. Are în egală măsură limite marine, în sud, unde este scăldată de apele Oceanului Indian, şi terestre, în rest, fiind mărginită de alte regiuni asiatice. Cuprinde o parte continentală, o mare peninsulă (Peninsula Indiană), o insulă mai întinsă (Ceylon) şi câteva arhipeleaguri (Maldive, Andaman, Nicobare)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nsambl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Asia de Sud este o regiune de platouri şi munţi înalţi. Platouri există îndeosebi în partea sudică [...]. În schim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munţii se desfăşoară în partea nordică, unde formează cel mai înalt şi mai masiv lanţ muntos de pe glob: Hindu Kush – Karakorum – Himalaya. În acest lanţ muntos sunt concentrate toate cele opt vârfuri de peste 80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 de pe glob, inclusiv cel mai înalt pisc: Chomolungma, cu 884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cestă regiune există şi câmpii, fără să egalez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nsă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dimensiunile platourilor şi ale munţilor. Face excepţie Câmpia Indo–Gangetică, una dintre cele mai întinse de pe glob: se desfăşoară pe circa 2000 km lungime şi pe câteva sute de kilometri lăţime. Este o câmpie joasă şi fertilă, udată de fluviile Indus, Gange şi Brahmaputra, care sunt cele mai mari din regiu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ia de Sud este una dintre cele mai populate regiuni ale continentului ş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totodată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de pe întreaga planetă: concentrează mai mult de o treime din populaţia Asiei. Totuş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n Asia de Su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e întâlnesc mai puţine populaţii decât în alte regiuni ale continentului, între care: indieni, pakistanezi, bengalezi, afghani, nepalezi, singhalezi.[…]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ceanul Indian, cu cei 73,4 milioane km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ai săi, este al treilea ca întindere între oceanele plane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fiind delimitat de patru continente: Africa (în vest), Asia (în nord), Australia (în est) şi Antartica (în sud). Spre deosebire de oceanele Pacific şi Atlantic, se desfăşoară în cea mare parte în emisfera sud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3" descr="comp_i"/>
          <p:cNvPicPr/>
          <p:nvPr/>
        </p:nvPicPr>
        <p:blipFill>
          <a:blip r:embed="rId1"/>
          <a:stretch/>
        </p:blipFill>
        <p:spPr>
          <a:xfrm>
            <a:off x="5257800" y="1905120"/>
            <a:ext cx="3238560" cy="32385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ăspundeţi la următoarele întrebăr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rmăriţi harta şi tabelul ţărilor din Asia de Sud şi notaţi în caie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ările insular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ările fără ieşire la mar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ara cea mai populat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regiunea Asia de Sud prin trei elemente specif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ef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rse ale subsolulu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m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nalizaţi harta Oceanului Indian şi numiţ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aralelele importante care-l traverseaz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zonele climatice în care se desfăşoară suprafaţa oceanulu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cipalele insu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nţul muntos submar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Elev</cp:lastModifiedBy>
  <dcterms:modified xsi:type="dcterms:W3CDTF">2012-06-18T11:41:02Z</dcterms:modified>
  <cp:revision>39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